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5.jpeg" ContentType="image/jpeg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1FC-FF94-4AD1-B077-E85E44F7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063-0AED-448F-B235-F46D3830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BB0-F0F4-4E37-A606-85D11A57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A0A-A03D-4DAB-8306-450609FA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4787-DFE3-4270-8B09-8E920D2E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2335-A3DA-4FE1-A49E-B63832D7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8C08-0607-497E-97EA-D9590C8B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B429-C271-4286-94DC-8ACC7C66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2A4C-06D6-4F3E-BAA8-5E951808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5350-023F-4906-A36C-122E9438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229E-5EF8-4ED3-9D72-05F9D666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AC7-2489-4EE5-9F0E-D4CB7608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8961-FA81-42BD-9A5B-23497735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1536-CBE7-4817-BA90-B3124454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2FFF-271C-4457-8E22-68C677E2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DF52-5049-488E-8D84-9232968C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CADE-9F0E-4CCE-B223-2FB93308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3B0-BD3D-41DE-A55C-983D20FD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C73-D4AC-4FD9-8845-8A40A8F5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F6B-773E-428F-A1F4-33003BAA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176-A328-4240-B3B3-5A549B8A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439-9B4D-4D90-A2ED-502502B3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7B6-3620-4374-96CF-0ACAF723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404-E7AE-46EA-9FDB-A3F36E7B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ABA7-9A66-405E-A6C5-A9A47C8CBF8C}" type="slidenum">
              <a: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DB50-D295-486C-8242-C6A04CC9BB74}" type="slidenum">
              <a: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hyperlink" Target="http://www.fueleconomy.gov/" TargetMode="External"/><Relationship Id="rId4" Type="http://schemas.openxmlformats.org/officeDocument/2006/relationships/hyperlink" Target="http://en.wikipedia.org/wiki/Fuel_efficiency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Herculanum"/>
              </a:rPr>
              <a:t>Fuel Efficienc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Herculanum"/>
              </a:rPr>
              <a:t>Future vs. Now</a:t>
            </a:r>
            <a:endParaRPr b="0" i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y:</a:t>
            </a: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rk Shimizu</a:t>
            </a: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hristopher Chiu</a:t>
            </a: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Kevin Ueunten</a:t>
            </a: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urrent Fuel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5943600" cy="24382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Gasoline (Petroleum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Used in the majority (80%) of ca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3,588,000 Barrels are impor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each d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Diesel Fu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Unrefined form of Gasolin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Used in larger ca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Lucida Grande"/>
              </a:rPr>
              <a:t>56 billion gallons per yea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2860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lternative Fuel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41911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thano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mpirical Formula C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uel additive in gasolin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ethano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mpirical Formula CH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ethanol blended fuels are used by drag rac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72200" y="398772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095880" y="1600200"/>
            <a:ext cx="23623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as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ocedur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9880" y="2133720"/>
            <a:ext cx="5105520" cy="30477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ass the alcohol burner with fu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ll the aluminum can with 200ml of wate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ight alcohol burner and let it heat the water to desired temperature (50-70 degrees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Quickly blow out the burner and cover i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ass alcohol burner after fuel being us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Use the data like the mass of fuel burnt and the change in temperature to calculate heat and amount of energy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1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ata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5264" r="0" b="0"/>
          <a:stretch/>
        </p:blipFill>
        <p:spPr>
          <a:xfrm>
            <a:off x="647640" y="1676520"/>
            <a:ext cx="7848720" cy="4709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7400" y="3429000"/>
            <a:ext cx="11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75080" y="618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ngs to Consider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760" y="1523520"/>
            <a:ext cx="4724280" cy="48769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iesel and Petroleum had the most energ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etroleum and Diesel had a lot more carbon emission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thanol and Methanol may be more reasonable based on how they are better for the environmen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"/>
          <p:cNvSpPr/>
          <p:nvPr/>
        </p:nvSpPr>
        <p:spPr>
          <a:xfrm>
            <a:off x="3862440" y="5943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773080" cy="4165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5867280"/>
            <a:ext cx="24386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Lucida Grande"/>
                <a:hlinkClick r:id="rId3"/>
              </a:rPr>
              <a:t>www.fueleconomy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Lucida Grande"/>
                <a:hlinkClick r:id="rId4"/>
              </a:rPr>
              <a:t>http://en.wikipedia.org/wiki/Fuel_efficiency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8:18:19Z</dcterms:created>
  <dc:creator>Punahou School</dc:creator>
  <dc:description/>
  <dc:language>en-US</dc:language>
  <cp:lastModifiedBy>Punahou School</cp:lastModifiedBy>
  <dcterms:modified xsi:type="dcterms:W3CDTF">2007-04-03T17:30:08Z</dcterms:modified>
  <cp:revision>4</cp:revision>
  <dc:subject/>
  <dc:title>Fuel Efficiency Future vs. Now</dc:title>
</cp:coreProperties>
</file>